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BC8-103E-4A86-A4DD-BE794684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B40-D012-4E29-BA9A-E8A88C2F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C30-E009-49B4-8D5C-28923162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A4E-97DF-4080-8D8B-C11D052B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A1E-F4BF-4E41-A243-AC6D4815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2EC-78A6-4321-B6C5-803CE75E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429-D9D6-4E7E-8CAE-B8F31DA8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F3B-E107-49D3-BBBF-5A37AEB7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677-98B6-4942-9F28-ADF8186A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254-CFFE-483E-A9D2-570B1CCC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E80-99FB-45B9-BD5C-9BB226B0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55C-B862-4A6D-AB9B-55EEDA97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FD7D-0124-43CA-B20B-40A5B84DA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2298600" cy="1635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516720" y="1844640"/>
            <a:ext cx="1908000" cy="2544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619280" y="5229360"/>
            <a:ext cx="640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By Rhiannon Oldersha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000" y="907920"/>
            <a:ext cx="7962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500"/>
                    </a:gs>
                  </a:gsLst>
                  <a:lin ang="5400000"/>
                </a:gradFill>
                <a:latin typeface="Arial Black"/>
              </a:rPr>
              <a:t>Do children eat a balanced die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5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0920" y="404640"/>
            <a:ext cx="8713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Arial Black"/>
              </a:rPr>
              <a:t>I have done some research on children`s e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6064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ff"/>
                </a:solidFill>
                <a:uFillTx/>
                <a:latin typeface="Comic Sans MS"/>
              </a:rPr>
              <a:t>This is what I have been do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41720"/>
            <a:ext cx="6767640" cy="9471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ly I took 17 photographs of years 3+4 children’s packed lu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941720"/>
            <a:ext cx="684036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Fax"/>
              </a:rPr>
              <a:t>Secondly I gave 15 food dairies to year 3+5.  I got seven completed ones bac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835280" y="189000"/>
            <a:ext cx="4751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hodology</a:t>
            </a:r>
            <a:endParaRPr b="0" lang="en-US" sz="1800" spc="1" strike="noStrike">
              <a:ln w="0">
                <a:noFill/>
              </a:ln>
              <a:solidFill>
                <a:srgbClr val="ff66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349360"/>
            <a:ext cx="6264360" cy="475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Berlin Sans FB Demi"/>
              </a:rPr>
              <a:t>I took 17 photograph of children's lunch boxes and after I did a tally chart and wrote down what they ate.</a:t>
            </a:r>
            <a:r>
              <a:rPr b="1" lang="en-US" sz="4000" spc="-1" strike="noStrike">
                <a:solidFill>
                  <a:srgbClr val="00ffff"/>
                </a:solidFill>
                <a:latin typeface="Berlin Sans FB Dem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443640" y="2421000"/>
            <a:ext cx="2411280" cy="1861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195640" y="4869000"/>
            <a:ext cx="200484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what I found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% of children had crisps in their packed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% had sandw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% of children had a drink in their packed lu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ndered if some children didn’t have a drink all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have a drink in your packed lunch, it is a good idea to go to the water fount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know sometimes children might not go to the water fountain because they don’t want to be separated from their frie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is good for you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you to concen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tops you getting dehyd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35% of children had chocolate in their packed lunc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ought this would be hig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diary 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und out what seven children ate on a 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hildren did not have a healthy break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ll children have a sugary ce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d children eat 5 fruit and vegetables a da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2 children had 5 or more fruit and vegetables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oticed lots of children have crisps.  5 out of 7 children have crisps during the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children had crisps in their packed lunches to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could eat healthier snacks.  Instead of crisps they could have a healthy snack, such as a juicy apple or a sweet bana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children should think about when they are older.  They need to remember that what they eat now will affect them in the fu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2:58:50Z</dcterms:created>
  <dc:creator>supervisor</dc:creator>
  <dc:description/>
  <dc:language>en-US</dc:language>
  <cp:lastModifiedBy>supervisor</cp:lastModifiedBy>
  <dcterms:modified xsi:type="dcterms:W3CDTF">2007-07-12T11:19:25Z</dcterms:modified>
  <cp:revision>7</cp:revision>
  <dc:subject/>
  <dc:title>Slide 1</dc:title>
</cp:coreProperties>
</file>